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HIMES.WAV" ContentType="audio/x-wav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0836-7213-404C-B2AA-2C9332069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ED73-6D40-42A5-94F4-9D489A3EE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D5A9-177C-4900-A0AE-3B5A36377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9C5C-0959-42E5-B437-5C484B710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F4B9-39F6-4ED2-A0FD-75BACCFC1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583D-BBD8-408F-A5D8-713537279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656D-FB51-412E-8BF3-FD58BC5E5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4913-47F2-4877-9A7E-6E4B9EFCA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BB14-407A-4791-9A42-1331064E6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B5B9-1C38-433A-AED6-6718D42A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BE0E-3BCC-41FA-BFFE-6B62D302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A63F-D71D-4B4B-8A8A-4C979840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DFA69-A321-4C6A-8B3B-1EBE3CD4E2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5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slide15.xml"/><Relationship Id="rId10" Type="http://schemas.openxmlformats.org/officeDocument/2006/relationships/slide" Target=""/><Relationship Id="rId11" Type="http://schemas.openxmlformats.org/officeDocument/2006/relationships/slide" Target="slide16.xml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slide11.xml"/><Relationship Id="rId17" Type="http://schemas.openxmlformats.org/officeDocument/2006/relationships/slide" Target=""/><Relationship Id="rId18" Type="http://schemas.openxmlformats.org/officeDocument/2006/relationships/slide" Target="slide12.xml"/><Relationship Id="rId19" Type="http://schemas.openxmlformats.org/officeDocument/2006/relationships/slide" Target=""/><Relationship Id="rId20" Type="http://schemas.openxmlformats.org/officeDocument/2006/relationships/slide" Target="slide13.xml"/><Relationship Id="rId21" Type="http://schemas.openxmlformats.org/officeDocument/2006/relationships/slide" Target=""/><Relationship Id="rId22" Type="http://schemas.openxmlformats.org/officeDocument/2006/relationships/slide" Target="slide9.xml"/><Relationship Id="rId23" Type="http://schemas.openxmlformats.org/officeDocument/2006/relationships/slide" Target=""/><Relationship Id="rId24" Type="http://schemas.openxmlformats.org/officeDocument/2006/relationships/slide" Target="slide17.xml"/><Relationship Id="rId25" Type="http://schemas.openxmlformats.org/officeDocument/2006/relationships/slide" Target=""/><Relationship Id="rId26" Type="http://schemas.openxmlformats.org/officeDocument/2006/relationships/slide" Target="slide7.xml"/><Relationship Id="rId27" Type="http://schemas.openxmlformats.org/officeDocument/2006/relationships/slide" Target=""/><Relationship Id="rId28" Type="http://schemas.openxmlformats.org/officeDocument/2006/relationships/slide" Target=""/><Relationship Id="rId29" Type="http://schemas.openxmlformats.org/officeDocument/2006/relationships/slide" Target="slide19.xml"/><Relationship Id="rId30" Type="http://schemas.openxmlformats.org/officeDocument/2006/relationships/slide" Target=""/><Relationship Id="rId31" Type="http://schemas.openxmlformats.org/officeDocument/2006/relationships/slide" Target="slide20.xml"/><Relationship Id="rId32" Type="http://schemas.openxmlformats.org/officeDocument/2006/relationships/slide" Target=""/><Relationship Id="rId33" Type="http://schemas.openxmlformats.org/officeDocument/2006/relationships/slide" Target=""/><Relationship Id="rId34" Type="http://schemas.openxmlformats.org/officeDocument/2006/relationships/slide" Target="slide3.xml"/><Relationship Id="rId3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7724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250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7254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nd a unit vector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rection of &lt;5,-12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1522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&lt;5/13,-12/13&gt;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itial Point:  (1.64,7.2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rminal Point:  (-2.33,3.8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&lt;-3.97,-3.35&gt;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v=&lt;6,0&gt; find llv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304920"/>
            <a:ext cx="7162920" cy="10159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6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1" action="ppaction://hlinksldjump"/>
          </p:cNvPr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u=&lt;5,3&gt; and v=&lt;-4,0&gt; find 2u -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&lt;14,6&gt;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rId1" action="ppaction://hlinksldjump"/>
          </p:cNvPr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nd a unit vector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rection of &lt;8,-20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&lt;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29/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,-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29/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rId1" action="ppaction://hlinksldjump"/>
          </p:cNvPr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5486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&lt;-5,1&gt;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590920" y="1143000"/>
            <a:ext cx="3862440" cy="39625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 flipH="1" flipV="1">
            <a:off x="3504960" y="365724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f v=&lt;3,4&gt; what is llvll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5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u=&lt;5,3&gt; and v=&lt;-4,0&gt; find 3u - 2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&lt;23,9&gt;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nd a unit vector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rection of i-2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&l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5/5,-2√5/5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 Point:  (-4.2,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l Point:  (3.7,-12.9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&lt;7.9,-17.9&gt;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6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5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7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8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9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0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1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2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3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380880"/>
            <a:ext cx="1600200" cy="5806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onent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62320" y="380880"/>
            <a:ext cx="1752480" cy="3373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gnitu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380880"/>
            <a:ext cx="1600200" cy="6426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ector 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010280" y="380880"/>
            <a:ext cx="1752840" cy="3070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nit Vec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4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5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6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7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8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9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0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21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2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3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4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5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6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7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8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9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30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1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32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33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4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rId1" action="ppaction://hlinksldjump"/>
          </p:cNvPr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v = &lt;-24,-7&gt; what is llvl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25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u=2i-5j and v=-3i+4j find u +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–i-j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-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981080" y="19810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nd a unit vector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rection of -3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 Point (-3,11) Terminal Point (9,40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12,29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v=&lt;2,3&gt; find llv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13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u=&lt;8,-3&gt; what is –u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152280"/>
            <a:ext cx="7086600" cy="13230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&lt;-8,3&gt;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nd a unit vector in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irection of &lt;0,-3&gt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90720" y="22860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is &lt;0,-1&gt;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&lt;2,3&gt;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362320" y="1219320"/>
            <a:ext cx="3789360" cy="38862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 flipV="1">
            <a:off x="3276720" y="2361960"/>
            <a:ext cx="60948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v=&lt;2,4&gt; what is llvll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90720" y="228600"/>
            <a:ext cx="7162560" cy="10159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u=&lt;5,3&gt; and v=&lt;-4,0&gt; find u +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&lt;1,3&gt;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abeason</cp:lastModifiedBy>
  <cp:lastPrinted>2001-01-31T16:21:13Z</cp:lastPrinted>
  <dcterms:modified xsi:type="dcterms:W3CDTF">2009-02-25T17:04:10Z</dcterms:modified>
  <cp:revision>79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